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2070-DCC7-4BC3-9054-460FE74BF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716B-C9D1-4D4F-BB87-AD72170AE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2BAD-3840-4B76-A915-14E18407B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D0C7-DB31-40FE-A722-F9D797440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152B-8373-4361-8DB9-2DC0C509A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90C8-9A94-4362-AD19-A6DB8DD63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A2C0-466C-4BA8-82FC-87A3C4106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2C00-8E7A-4644-BD9B-091869033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C19D-95A0-429E-8937-E2F9289C5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24D1-A058-44CA-9431-4CAD7F11C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274B-2B35-4765-9BC3-AAC501E02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B222-A280-4894-AB5B-A69F3878E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9E605-E7A6-4F82-9EED-C524B59479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65571-954A-42DC-A230-077CC2EC76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228240" y="151920"/>
            <a:ext cx="891540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uscular Respons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ne method of studying muscle function is to remove a single fiber and connect it to a device that records its responses to electrical stim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reshold Stimu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cording a Muscular Contra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ummation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cruitment of Motor Uni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. A motor neuron and the muscle fibers it controls mak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up a 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Arial"/>
                <a:ea typeface="Times New Roman"/>
              </a:rPr>
              <a:t>motor un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; when stimulated to do so, the muscl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ibers of the motor unit contract all at on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.  An increase in the number of activated motor uni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ithin a muscle at higher intensities of stimulation i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alle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Arial"/>
                <a:ea typeface="Times New Roman"/>
              </a:rPr>
              <a:t>recruit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EB3C9-F2D0-432B-8428-C447DB4C8B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228240" y="151920"/>
            <a:ext cx="891540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uscular Respons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ne method of studying muscle function is to remove a single fiber and connect it to a device that records its responses to electrical stim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reshold Stimu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cording a Muscular Contra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ummation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cruitment of Motor Uni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ustained Contrac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.Summation and recruitment together can produce 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ustained contrac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f increasing str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. 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Arial"/>
                <a:ea typeface="Times New Roman"/>
              </a:rPr>
              <a:t>Muscle to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s achieved by a continuous state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ustained contraction of motor units within a musc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CC08E-6444-4B7A-971A-AF45A493BB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04560" y="-360"/>
            <a:ext cx="883908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4640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mooth Muscle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64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. Smooth Muscle Fi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4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.Smooth muscle cells are elongated with tapered ends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ack striations and have a relatively undevelope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arcoplasmic reticulu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4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. Multiunit smooth muscle and visceral muscle are tw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ypes of smooth musc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4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. In 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Arial"/>
                <a:ea typeface="Times New Roman"/>
              </a:rPr>
              <a:t>multiunit smooth musc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 such as in th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lood vessels and iris of the eye, fibers occu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eparately rather than as she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4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. 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Arial"/>
                <a:ea typeface="Times New Roman"/>
              </a:rPr>
              <a:t>Visceral smooth musc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occurs in sheets an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found in the walls of hollow organs; these fiber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an stimulate one another and display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hythmic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 are thus responsible for 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Arial"/>
                <a:ea typeface="Times New Roman"/>
              </a:rPr>
              <a:t>peristals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hollow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rgans and tub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4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4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404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5D5D8-9AFE-4993-8A58-844DF750E5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04560" y="-360"/>
            <a:ext cx="883908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798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mooth Muscle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79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. Smooth Muscle Fi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mooth Muscle Cont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9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.The myosin-binding-to-actin mechanism is mostly th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ame for smooth muscles and skeletal musc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9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. Both acetylcholine and norepinephrine stimulate an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hibit smooth muscle contraction, depending on th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arget musc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9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. Hormones can also stimulate or inhibit contra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9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. Smooth muscle is slower to contract and relax than i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keletal muscle, but can contract longer using th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ame amount of ATP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9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9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9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9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B700B-CA02-4D17-979A-0531FB7468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01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ardiac Musc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1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. Almost the same mechanism of contraction a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keletal and smooth muscle, but with som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ifferenc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B. Cardiac muscle has transverse tubules tha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upply extra calcium, and can thus contract fo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onger perio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. Complex membrane junctions, calle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ntercalated disc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, join cells and transmit the forc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of contraction from one cell to the next, as well a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id in the rapid transmission of impulse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hroughout the hear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. Cardiac muscle is self-exciting and rhythmic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nd the whole structure contracts as a un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F7A3C-BD01-4881-90EE-4095A1CCD2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228240" y="151920"/>
            <a:ext cx="89154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96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keletal Muscle A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Origin and Inser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1. Immovable end of a muscle is the </a:t>
            </a:r>
            <a:r>
              <a:rPr b="0" lang="en-US" sz="2800" spc="-1" strike="noStrike" u="sng">
                <a:solidFill>
                  <a:srgbClr val="333399"/>
                </a:solidFill>
                <a:uFillTx/>
                <a:latin typeface="Arial"/>
                <a:ea typeface="Times New Roman"/>
              </a:rPr>
              <a:t>ori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2. Movable end is the inser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3. Contraction pulls the </a:t>
            </a:r>
            <a:r>
              <a:rPr b="0" lang="en-US" sz="2800" spc="-1" strike="noStrike" u="sng">
                <a:solidFill>
                  <a:srgbClr val="333399"/>
                </a:solidFill>
                <a:uFillTx/>
                <a:latin typeface="Arial"/>
                <a:ea typeface="Times New Roman"/>
              </a:rPr>
              <a:t>inser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toward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orig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4. Some muscles have more than one inser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or orig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6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nteraction of Skeletal Musc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6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1. Of a group of muscles, the one doing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ajority of the work is the </a:t>
            </a:r>
            <a:r>
              <a:rPr b="0" lang="en-US" sz="2800" spc="-1" strike="noStrike" u="sng">
                <a:solidFill>
                  <a:srgbClr val="333399"/>
                </a:solidFill>
                <a:uFillTx/>
                <a:latin typeface="Arial"/>
                <a:ea typeface="Times New Roman"/>
              </a:rPr>
              <a:t>prime mover/agoni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6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2. Helper muscles are called </a:t>
            </a:r>
            <a:r>
              <a:rPr b="0" lang="en-US" sz="2800" spc="-1" strike="noStrike" u="sng">
                <a:solidFill>
                  <a:srgbClr val="333399"/>
                </a:solidFill>
                <a:uFillTx/>
                <a:latin typeface="Arial"/>
                <a:ea typeface="Times New Roman"/>
              </a:rPr>
              <a:t>synergis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;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opposing muscles are called </a:t>
            </a:r>
            <a:r>
              <a:rPr b="0" lang="en-US" sz="2800" spc="-1" strike="noStrike" u="sng">
                <a:solidFill>
                  <a:srgbClr val="333399"/>
                </a:solidFill>
                <a:uFillTx/>
                <a:latin typeface="Arial"/>
                <a:ea typeface="Times New Roman"/>
              </a:rPr>
              <a:t>antagonists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Times New Roman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37"/>
          <p:cNvSpPr/>
          <p:nvPr/>
        </p:nvSpPr>
        <p:spPr>
          <a:xfrm>
            <a:off x="0" y="39600"/>
            <a:ext cx="157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08.1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3"/>
          <p:cNvSpPr/>
          <p:nvPr/>
        </p:nvSpPr>
        <p:spPr>
          <a:xfrm>
            <a:off x="1447920" y="378000"/>
            <a:ext cx="6248160" cy="64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"/>
          <p:cNvPicPr/>
          <p:nvPr/>
        </p:nvPicPr>
        <p:blipFill>
          <a:blip r:embed="rId1"/>
          <a:stretch/>
        </p:blipFill>
        <p:spPr>
          <a:xfrm>
            <a:off x="1447920" y="378000"/>
            <a:ext cx="6245280" cy="63975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6"/>
          <p:cNvSpPr/>
          <p:nvPr/>
        </p:nvSpPr>
        <p:spPr>
          <a:xfrm>
            <a:off x="1714680" y="4384800"/>
            <a:ext cx="6757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adiu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7"/>
          <p:cNvSpPr/>
          <p:nvPr/>
        </p:nvSpPr>
        <p:spPr>
          <a:xfrm>
            <a:off x="2349360" y="4527720"/>
            <a:ext cx="9907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8"/>
          <p:cNvSpPr/>
          <p:nvPr/>
        </p:nvSpPr>
        <p:spPr>
          <a:xfrm>
            <a:off x="1661400" y="5159520"/>
            <a:ext cx="132516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nsertion of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biceps brachii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9"/>
          <p:cNvSpPr/>
          <p:nvPr/>
        </p:nvSpPr>
        <p:spPr>
          <a:xfrm>
            <a:off x="1657440" y="5403960"/>
            <a:ext cx="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0"/>
          <p:cNvSpPr/>
          <p:nvPr/>
        </p:nvSpPr>
        <p:spPr>
          <a:xfrm>
            <a:off x="2749680" y="5295960"/>
            <a:ext cx="16826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1"/>
          <p:cNvSpPr/>
          <p:nvPr/>
        </p:nvSpPr>
        <p:spPr>
          <a:xfrm>
            <a:off x="3754800" y="3527280"/>
            <a:ext cx="65160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Bicep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brachii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2"/>
          <p:cNvSpPr/>
          <p:nvPr/>
        </p:nvSpPr>
        <p:spPr>
          <a:xfrm>
            <a:off x="3753000" y="3774960"/>
            <a:ext cx="3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3"/>
          <p:cNvSpPr/>
          <p:nvPr/>
        </p:nvSpPr>
        <p:spPr>
          <a:xfrm>
            <a:off x="4435560" y="3664080"/>
            <a:ext cx="10065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4"/>
          <p:cNvSpPr/>
          <p:nvPr/>
        </p:nvSpPr>
        <p:spPr>
          <a:xfrm>
            <a:off x="3753000" y="2197080"/>
            <a:ext cx="97452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endon of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ong hea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5"/>
          <p:cNvSpPr/>
          <p:nvPr/>
        </p:nvSpPr>
        <p:spPr>
          <a:xfrm>
            <a:off x="3759120" y="2441520"/>
            <a:ext cx="3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6"/>
          <p:cNvSpPr/>
          <p:nvPr/>
        </p:nvSpPr>
        <p:spPr>
          <a:xfrm>
            <a:off x="3769560" y="2847960"/>
            <a:ext cx="102168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endon of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hort hea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7"/>
          <p:cNvSpPr/>
          <p:nvPr/>
        </p:nvSpPr>
        <p:spPr>
          <a:xfrm>
            <a:off x="3759120" y="3092400"/>
            <a:ext cx="3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8"/>
          <p:cNvSpPr/>
          <p:nvPr/>
        </p:nvSpPr>
        <p:spPr>
          <a:xfrm>
            <a:off x="4762440" y="2333520"/>
            <a:ext cx="11494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reeform 19"/>
          <p:cNvSpPr/>
          <p:nvPr/>
        </p:nvSpPr>
        <p:spPr>
          <a:xfrm>
            <a:off x="4772160" y="2276640"/>
            <a:ext cx="1724040" cy="711000"/>
          </a:xfrm>
          <a:custGeom>
            <a:avLst/>
            <a:gdLst>
              <a:gd name="textAreaLeft" fmla="*/ 0 w 1724040"/>
              <a:gd name="textAreaRight" fmla="*/ 1724400 w 1724040"/>
              <a:gd name="textAreaTop" fmla="*/ 0 h 711000"/>
              <a:gd name="textAreaBottom" fmla="*/ 711360 h 711000"/>
            </a:gdLst>
            <a:ahLst/>
            <a:rect l="textAreaLeft" t="textAreaTop" r="textAreaRight" b="textAreaBottom"/>
            <a:pathLst>
              <a:path w="1086" h="448">
                <a:moveTo>
                  <a:pt x="0" y="448"/>
                </a:moveTo>
                <a:lnTo>
                  <a:pt x="188" y="448"/>
                </a:lnTo>
                <a:lnTo>
                  <a:pt x="1086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0"/>
          <p:cNvSpPr/>
          <p:nvPr/>
        </p:nvSpPr>
        <p:spPr>
          <a:xfrm>
            <a:off x="3815280" y="679320"/>
            <a:ext cx="1684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racoid proces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Freeform 21"/>
          <p:cNvSpPr/>
          <p:nvPr/>
        </p:nvSpPr>
        <p:spPr>
          <a:xfrm>
            <a:off x="5479920" y="816120"/>
            <a:ext cx="1324080" cy="790560"/>
          </a:xfrm>
          <a:custGeom>
            <a:avLst/>
            <a:gdLst>
              <a:gd name="textAreaLeft" fmla="*/ 0 w 1324080"/>
              <a:gd name="textAreaRight" fmla="*/ 1324080 w 1324080"/>
              <a:gd name="textAreaTop" fmla="*/ 0 h 790560"/>
              <a:gd name="textAreaBottom" fmla="*/ 790920 h 790560"/>
            </a:gdLst>
            <a:ahLst/>
            <a:rect l="textAreaLeft" t="textAreaTop" r="textAreaRight" b="textAreaBottom"/>
            <a:pathLst>
              <a:path w="834" h="498">
                <a:moveTo>
                  <a:pt x="0" y="0"/>
                </a:moveTo>
                <a:lnTo>
                  <a:pt x="92" y="0"/>
                </a:lnTo>
                <a:lnTo>
                  <a:pt x="834" y="498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2"/>
          <p:cNvSpPr/>
          <p:nvPr/>
        </p:nvSpPr>
        <p:spPr>
          <a:xfrm>
            <a:off x="3750480" y="1527120"/>
            <a:ext cx="132516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Origins of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biceps brachii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3"/>
          <p:cNvSpPr/>
          <p:nvPr/>
        </p:nvSpPr>
        <p:spPr>
          <a:xfrm>
            <a:off x="3746520" y="1771560"/>
            <a:ext cx="3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Freeform 24"/>
          <p:cNvSpPr/>
          <p:nvPr/>
        </p:nvSpPr>
        <p:spPr>
          <a:xfrm>
            <a:off x="4708440" y="1647720"/>
            <a:ext cx="2013120" cy="111240"/>
          </a:xfrm>
          <a:custGeom>
            <a:avLst/>
            <a:gdLst>
              <a:gd name="textAreaLeft" fmla="*/ 0 w 2013120"/>
              <a:gd name="textAreaRight" fmla="*/ 2013480 w 2013120"/>
              <a:gd name="textAreaTop" fmla="*/ 0 h 111240"/>
              <a:gd name="textAreaBottom" fmla="*/ 111600 h 111240"/>
            </a:gdLst>
            <a:ahLst/>
            <a:rect l="textAreaLeft" t="textAreaTop" r="textAreaRight" b="textAreaBottom"/>
            <a:pathLst>
              <a:path w="1268" h="70">
                <a:moveTo>
                  <a:pt x="0" y="0"/>
                </a:moveTo>
                <a:lnTo>
                  <a:pt x="228" y="0"/>
                </a:lnTo>
                <a:lnTo>
                  <a:pt x="1268" y="7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25"/>
          <p:cNvSpPr/>
          <p:nvPr/>
        </p:nvSpPr>
        <p:spPr>
          <a:xfrm>
            <a:off x="5070600" y="1647720"/>
            <a:ext cx="1425600" cy="222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6"/>
          <p:cNvSpPr/>
          <p:nvPr/>
        </p:nvSpPr>
        <p:spPr>
          <a:xfrm>
            <a:off x="2468880" y="530280"/>
            <a:ext cx="42696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pyright © The McGraw-Hill Companies, Inc. Permission required for reproduction or display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7"/>
          <p:cNvSpPr/>
          <p:nvPr/>
        </p:nvSpPr>
        <p:spPr>
          <a:xfrm>
            <a:off x="2914560" y="530280"/>
            <a:ext cx="360" cy="1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8"/>
          <p:cNvSpPr/>
          <p:nvPr/>
        </p:nvSpPr>
        <p:spPr>
          <a:xfrm>
            <a:off x="2987640" y="530280"/>
            <a:ext cx="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B56D2-42CE-4246-87FB-1B84724F8F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4T15:24:38Z</dcterms:created>
  <dc:creator>ITR </dc:creator>
  <dc:description/>
  <dc:language>en-US</dc:language>
  <cp:lastModifiedBy>gibsonbrownr</cp:lastModifiedBy>
  <dcterms:modified xsi:type="dcterms:W3CDTF">2012-01-03T01:03:02Z</dcterms:modified>
  <cp:revision>128</cp:revision>
  <dc:subject/>
  <dc:title>PowerPoint Presentation</dc:title>
</cp:coreProperties>
</file>